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490D-DD5F-4CAB-A9E3-FB910A30E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F60E-6364-454D-99AA-54D3C0261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DEDC-9890-4A6B-A7BD-35AE60B6E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0E11-60D3-4F27-BC6A-94E9E8DAA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480A-90B8-466F-961C-E53C3C5D1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2C3A-DB82-467E-8331-574F68E09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E963-FD5A-4308-BCAB-2B66706FB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41DA-EF62-4421-A511-C7645821C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C2D1-BC61-43F5-95D0-4FA0E2DA7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F2F7-EC8B-4B1D-AC4E-93D314079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504C-CC6C-4888-B385-623EE650E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DF6A-0389-4C6A-AC5C-FF0D4A6EC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A24F-257C-477A-A3E0-B78E4DF8D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1FC4-DC79-4808-808A-66E11372D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6C710-2472-4B2E-A76F-CC2D2D7BA6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F4CCE-FFAE-436C-923D-CAE6E071A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AA422-476B-4824-86DE-6BDB115834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083E0-4A27-474D-B272-C635C5E4AD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8AFD-4E7F-4069-9D6A-29AC210D2F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4C36-5C17-4D0C-BBD5-E752069FBC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953F-41FB-4DA3-ABE6-449DC9BAB3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47D8-49EB-4080-A3DD-D33BFEA051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3C11-2E10-4E5E-98D1-CCC0FD85B4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E567-FB94-4985-8DE7-EE1A85A7D6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DC5F-CD78-4F29-94FE-3C15A358B6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C946E-EB4E-4481-B628-D7A6E1EC07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7F4A-BD3B-4772-AD49-831BC42F3C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723D-42E6-4636-A07A-D6865E0DB3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F77B-F9D6-491E-9E53-84BC98ACD4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81AF-9612-4E34-A201-D91E2EF7E2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BE3D-73DA-4AF4-8662-C719072E8E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B9702-A168-4B3E-AC4E-7959784782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91B08-9AA0-45D5-AA5E-C7839573ED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778C8-C553-4C62-963A-3F7AB7FE3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A66CB-0C4F-40AD-8D91-DD0A5B001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FDE32-C456-445F-80EF-ADC8D5130E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C49F2-F336-4A64-8B41-0B2D86A4B3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084C5-93CE-47BE-9C98-5135975BC9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3061-AA16-4BE4-A9A2-BCBFBF39C1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EB2F-5969-4922-B1F6-5C1B2056AC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7CD4-A1DD-4AA1-B31F-48E63D92C6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Verdana"/>
              </a:rPr>
              <a:t>Projet d’Organisation d’EEQ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DF93-4AFF-4AC4-BC96-6093861052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térêts du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ts et objec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ègles de confidenti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alend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9EE8-5827-4AF1-AE0A-36868A6A61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ntrô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, rétro-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ôle de “référence” du fournisseur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 et recommandations des laboratoires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ésoudre les 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ecommander certaine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MCj01572990000[1]"/>
          <p:cNvPicPr/>
          <p:nvPr/>
        </p:nvPicPr>
        <p:blipFill>
          <a:blip r:embed="rId1"/>
          <a:stretch/>
        </p:blipFill>
        <p:spPr>
          <a:xfrm>
            <a:off x="990720" y="4440240"/>
            <a:ext cx="2514600" cy="18842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3505320" y="4343400"/>
            <a:ext cx="5105160" cy="202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  <a:ea typeface="SimSun"/>
              </a:rPr>
              <a:t>On est jamais trop parfai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3751-B2E4-42D7-8B9C-516637B933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déjà contrôlé par un organisateur international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mpliquer les autor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s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et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du matériel non contam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ar une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une bonne stratégie de 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attentif aux comment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85800" y="1219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  <a:ea typeface="SimSun"/>
              </a:rPr>
              <a:t>Commencer un programme d’EEQ au niveau p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Résum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9DE9-100E-4A51-B431-93D9FB1622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86040" y="205740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3287-7D81-47ED-AF00-DF10743461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Options d’EE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jet national de 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eau de laboratoire –comparaisons/recontrôle inter laboratoi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+/- évaluations sur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5975-BE54-4E11-AE1F-56A650D84E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Avant la participation (et le succès !) dans un programme 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SimSun"/>
              </a:rPr>
              <a:t>Souscription à un programme extérieu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ntrôle sa propr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mpératif et oblig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une question de conf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AA98-F160-4608-9727-307D36C018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arantit la </a:t>
            </a:r>
            <a:r>
              <a:rPr b="0" lang="fr-FR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ttaché au mandat des instit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moyen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en liaison avec les activités de licence / certification / accréditation / règlements nation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finance (les activités d’EEQ permettent des économies,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es financer en vaut la pein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MCj01570510000[1]"/>
          <p:cNvPicPr/>
          <p:nvPr/>
        </p:nvPicPr>
        <p:blipFill>
          <a:blip r:embed="rId1"/>
          <a:stretch/>
        </p:blipFill>
        <p:spPr>
          <a:xfrm>
            <a:off x="6858000" y="3894120"/>
            <a:ext cx="1752480" cy="1582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Impliquer les autori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CB1C-E451-4438-984D-6F20894E58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simp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Test de capac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, colorées ou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loration de 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germes acido-alcoolo rési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de souches bactérie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icro organismes entériques (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econtrô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 (TB, Gram, LCR, aut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ouches bactériennes si matériel et capacité techniques présentes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 souches de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rottis"/>
          <p:cNvPicPr/>
          <p:nvPr/>
        </p:nvPicPr>
        <p:blipFill>
          <a:blip r:embed="rId1"/>
          <a:stretch/>
        </p:blipFill>
        <p:spPr>
          <a:xfrm>
            <a:off x="6934320" y="2286000"/>
            <a:ext cx="198108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AutoShape 6"/>
          <p:cNvSpPr/>
          <p:nvPr/>
        </p:nvSpPr>
        <p:spPr>
          <a:xfrm>
            <a:off x="5715000" y="2666880"/>
            <a:ext cx="914400" cy="457200"/>
          </a:xfrm>
          <a:prstGeom prst="pi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350D-2AAC-4BB4-98BD-C1630C24D3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pet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etit nombre de laborato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gion pil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Vérifier les options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ires pour une analyse (en dehors du program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remière étude avec du matériel basique (la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ires pour la première 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3 éléments par envoi (minimum 2 par 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6553080" y="304920"/>
            <a:ext cx="2151360" cy="2590560"/>
            <a:chOff x="6553080" y="304920"/>
            <a:chExt cx="2151360" cy="2590560"/>
          </a:xfrm>
        </p:grpSpPr>
        <p:pic>
          <p:nvPicPr>
            <p:cNvPr id="136" name="Picture 6" descr="j0278576"/>
            <p:cNvPicPr/>
            <p:nvPr/>
          </p:nvPicPr>
          <p:blipFill>
            <a:blip r:embed="rId1"/>
            <a:stretch/>
          </p:blipFill>
          <p:spPr>
            <a:xfrm>
              <a:off x="6553080" y="304920"/>
              <a:ext cx="215136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8"/>
            <p:cNvSpPr/>
            <p:nvPr/>
          </p:nvSpPr>
          <p:spPr>
            <a:xfrm rot="19759200">
              <a:off x="7238880" y="914040"/>
              <a:ext cx="914400" cy="53316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D48D-9590-45C9-88FB-6433D99668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  <a:ea typeface="SimSun"/>
              </a:rPr>
              <a:t>Commencer par du matériel non contami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 début, éviter: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agent pathogène “dangereu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érums contamin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uivre les loi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nhls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7733-44EE-4317-B2D5-EE0979922A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Besoins matéri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re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etit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util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nhls2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35F7-3E87-4DCF-9816-54031E2C33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Laboratoires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ociétés scientif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ssociations profession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res parties prenantes intéressés par l’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j0283214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6858000" y="2590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« EEQ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dolmazonv</cp:lastModifiedBy>
  <dcterms:modified xsi:type="dcterms:W3CDTF">2010-04-08T14:45:04Z</dcterms:modified>
  <cp:revision>20</cp:revision>
  <dc:subject/>
  <dc:title>EQA scheme Organization optional</dc:title>
</cp:coreProperties>
</file>